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3D3-6B39-4DE4-BE0E-B75C832C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B17-1E51-414E-8BC4-890CD71F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022D-51BC-4F36-8E2C-A807F0492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FCE-F6C8-451B-AAAC-A666D30E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410-0D57-4834-9C96-4303670E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A259-6890-4B0A-9490-C22D7D9C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EB1-6BD2-494D-95E8-865CE0CE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58A9-C873-4F17-954A-A3A80A9CE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EA3-1634-4518-8AD2-F58CEC3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1BD-FDA6-41DC-BE4F-F81DB863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3A3-3996-4ECB-800B-4E9FF3B0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9B0-7218-4861-9AC1-EEDFAD4C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4B7-B927-4E15-AE7F-01A412DC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27A-6798-4C72-A8E4-BF4014B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42F-76D4-4EB4-A22C-E42F135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AE7-C74C-4DF6-B72F-1453BFE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71B-497C-49AE-9778-C9742E6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931-7CB1-42E0-9CEC-6D66876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D18-8BB5-48E2-ADCC-8EAC514D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A0F-CCC7-485F-A7FE-788C76E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CED-2CCB-4A0C-8C75-7BE484F46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AC4E-B135-4422-8B95-A42D0CC7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ВРСТЕ И ДИЗАЈН ИМПЛАНТАТ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7 – 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Врсте макродизајна, површина – микродизајн имплантата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</a:t>
            </a:r>
            <a:r>
              <a:rPr b="1" i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39240" y="6180120"/>
            <a:ext cx="71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opyright © 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E876-B34B-4181-B109-77D8F853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80960" y="1708200"/>
            <a:ext cx="81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ИСТАСТИ ИМПЛАН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https://encrypted-tbn0.gstatic.com/images?q=tbn:ANd9GcSMlWkWJf0LUrMy86TX5EI5rXZhUZJzxAKY3MEjjP4jWLBzfIh6"/>
          <p:cNvPicPr/>
          <p:nvPr/>
        </p:nvPicPr>
        <p:blipFill>
          <a:blip r:embed="rId1"/>
          <a:srcRect l="23294" t="11465" r="22517" b="13312"/>
          <a:stretch/>
        </p:blipFill>
        <p:spPr>
          <a:xfrm>
            <a:off x="782640" y="3368520"/>
            <a:ext cx="2382840" cy="208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s://encrypted-tbn0.gstatic.com/images?q=tbn:ANd9GcRtNAh1wMoL5OZilcYVKm36PIbPDk4mLDtLO_RodvNO5zCKUB4U"/>
          <p:cNvPicPr/>
          <p:nvPr/>
        </p:nvPicPr>
        <p:blipFill>
          <a:blip r:embed="rId2"/>
          <a:stretch/>
        </p:blipFill>
        <p:spPr>
          <a:xfrm>
            <a:off x="4186080" y="1655640"/>
            <a:ext cx="23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s://encrypted-tbn1.gstatic.com/images?q=tbn:ANd9GcTRbs8jhdEmAjvA3ZH85NrSnx7my7MNewhHbNRhcRW0WLtEinB6"/>
          <p:cNvPicPr/>
          <p:nvPr/>
        </p:nvPicPr>
        <p:blipFill>
          <a:blip r:embed="rId3"/>
          <a:srcRect l="43322" t="-487" r="0" b="0"/>
          <a:stretch/>
        </p:blipFill>
        <p:spPr>
          <a:xfrm>
            <a:off x="6773760" y="1587600"/>
            <a:ext cx="2125800" cy="244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https://encrypted-tbn1.gstatic.com/images?q=tbn:ANd9GcQ0YmteDUJLgFUo5deSsciXC9LFaxEJJ9gqxKgxzAqqOoLaRdvk"/>
          <p:cNvPicPr/>
          <p:nvPr/>
        </p:nvPicPr>
        <p:blipFill>
          <a:blip r:embed="rId4"/>
          <a:srcRect l="0" t="3992" r="4848" b="9130"/>
          <a:stretch/>
        </p:blipFill>
        <p:spPr>
          <a:xfrm>
            <a:off x="5221440" y="3957480"/>
            <a:ext cx="14317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5C60-E5D2-48A9-A211-446B27D04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93560" y="1684440"/>
            <a:ext cx="814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НСДЕНТАЛНИ ИМПЛАН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е се у циљу побољшања стабилизације зуба . Изгледом су формирани као игле које се кроз канал корена зуба уграђују у периапикалну вилич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D:\My Documents\!doktori\DR MATIC\Predavanje\Dijapozitivi\10pred._transdent.impl\13.jpg"/>
          <p:cNvPicPr/>
          <p:nvPr/>
        </p:nvPicPr>
        <p:blipFill>
          <a:blip r:embed="rId1"/>
          <a:srcRect l="4650" t="10603" r="8902" b="11753"/>
          <a:stretch/>
        </p:blipFill>
        <p:spPr>
          <a:xfrm>
            <a:off x="1495440" y="3281400"/>
            <a:ext cx="3343320" cy="2981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My Documents\!doktori\DR MATIC\Predavanje\Dijapozitivi\10pred._transdent.impl\22.jpg"/>
          <p:cNvPicPr/>
          <p:nvPr/>
        </p:nvPicPr>
        <p:blipFill>
          <a:blip r:embed="rId2"/>
          <a:srcRect l="4932" t="0" r="2253" b="5014"/>
          <a:stretch/>
        </p:blipFill>
        <p:spPr>
          <a:xfrm>
            <a:off x="4808520" y="3311640"/>
            <a:ext cx="199404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FC2-83D3-497A-A06F-98F01646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396720" y="160020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ТЕРИГОИДНИ И ЗИГОМАТИЧНИ ИМПЛАН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D:\Users\Korisnik\Desktop\Zygoma Pano.001.jpg"/>
          <p:cNvPicPr/>
          <p:nvPr/>
        </p:nvPicPr>
        <p:blipFill>
          <a:blip r:embed="rId1"/>
          <a:stretch/>
        </p:blipFill>
        <p:spPr>
          <a:xfrm>
            <a:off x="1496880" y="1984320"/>
            <a:ext cx="59976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617-B740-43C8-9F5B-F4345FA3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44600" y="1684440"/>
            <a:ext cx="82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ПЕРИОСТАЛНИ ИМПЛАН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R MATIC\Predavanje\Dijapozitivi\11pred.subper.imp\19.jpg"/>
          <p:cNvPicPr/>
          <p:nvPr/>
        </p:nvPicPr>
        <p:blipFill>
          <a:blip r:embed="rId1"/>
          <a:stretch/>
        </p:blipFill>
        <p:spPr>
          <a:xfrm>
            <a:off x="349200" y="2230560"/>
            <a:ext cx="2560680" cy="169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R MATIC\Predavanje\Dijapozitivi\11pred.subper.imp\5.jpg"/>
          <p:cNvPicPr/>
          <p:nvPr/>
        </p:nvPicPr>
        <p:blipFill>
          <a:blip r:embed="rId2"/>
          <a:stretch/>
        </p:blipFill>
        <p:spPr>
          <a:xfrm>
            <a:off x="3452760" y="2230560"/>
            <a:ext cx="259704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R MATIC\Predavanje\Dijapozitivi\11pred.subper.imp\9.jpg"/>
          <p:cNvPicPr/>
          <p:nvPr/>
        </p:nvPicPr>
        <p:blipFill>
          <a:blip r:embed="rId3"/>
          <a:stretch/>
        </p:blipFill>
        <p:spPr>
          <a:xfrm>
            <a:off x="6211800" y="2222640"/>
            <a:ext cx="2592360" cy="1670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R MATIC\Predavanje\Dijapozitivi\11pred.subper.imp\35.jpg"/>
          <p:cNvPicPr/>
          <p:nvPr/>
        </p:nvPicPr>
        <p:blipFill>
          <a:blip r:embed="rId4"/>
          <a:stretch/>
        </p:blipFill>
        <p:spPr>
          <a:xfrm>
            <a:off x="372960" y="4443480"/>
            <a:ext cx="255276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R MATIC\Predavanje\Dijapozitivi\11pred.subper.imp\20.jpg"/>
          <p:cNvPicPr/>
          <p:nvPr/>
        </p:nvPicPr>
        <p:blipFill>
          <a:blip r:embed="rId5"/>
          <a:stretch/>
        </p:blipFill>
        <p:spPr>
          <a:xfrm>
            <a:off x="3484440" y="4417920"/>
            <a:ext cx="2552760" cy="168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R MATIC\Predavanje\Dijapozitivi\11pred.subper.imp\36.jpg"/>
          <p:cNvPicPr/>
          <p:nvPr/>
        </p:nvPicPr>
        <p:blipFill>
          <a:blip r:embed="rId6"/>
          <a:stretch/>
        </p:blipFill>
        <p:spPr>
          <a:xfrm>
            <a:off x="6188040" y="4383000"/>
            <a:ext cx="2573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B857-D3F6-413D-B417-CED466D5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84120" y="1695600"/>
            <a:ext cx="8182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433440" y="2262240"/>
            <a:ext cx="8156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а идеја на којој се базира осеоинтеграција имплантата заснована је на 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ци да се после уградње имплантата они интегришу у околно тк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 у многоме зависи од материјала и површине имплан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 што је титан данас материјал избора за израду имплантата постоје само различити облици обраде површине имплантата израђених од тит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1C6-112F-431F-8206-A64C014A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44600" y="1708200"/>
            <a:ext cx="81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шински обрађена површина имплан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DSCN0415"/>
          <p:cNvPicPr/>
          <p:nvPr/>
        </p:nvPicPr>
        <p:blipFill>
          <a:blip r:embed="rId1"/>
          <a:stretch/>
        </p:blipFill>
        <p:spPr>
          <a:xfrm>
            <a:off x="468360" y="2637000"/>
            <a:ext cx="2414520" cy="32191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9"/>
          <p:cNvSpPr/>
          <p:nvPr/>
        </p:nvSpPr>
        <p:spPr>
          <a:xfrm>
            <a:off x="3267000" y="3475080"/>
            <a:ext cx="537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Глатка површина која у додиру са ваздухом оксидира ( биоинертност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DBC5-29B2-4344-BC45-FE840CF9F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44600" y="1720800"/>
            <a:ext cx="8181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јем осамдесетих година показало се да је храпава површина супериорнија у односу на полирану површ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апава површина поспешује регенерацију и апозицију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Храпавост се постиже поступци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итивне методе ( наношење додатног површинског сло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е еродирања површине имплантата ( пескирање и нагриз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биноване методе ( наношење нано депозита калцијум-фосфата на већ хемијски припремљену површину импланта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0D44-CDF8-448C-B3F0-C0B5E321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469800" y="1576440"/>
            <a:ext cx="8145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лазмирана пов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на поступак наношења танког слоја неког материјала помоћу млаза плазме на врло високим температурама и великом брзином на површину имплан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бљина нанетог слоја је око 30- 5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а новоформиране поре на површини испуњава минерализована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DSCN0419"/>
          <p:cNvPicPr/>
          <p:nvPr/>
        </p:nvPicPr>
        <p:blipFill>
          <a:blip r:embed="rId1"/>
          <a:stretch/>
        </p:blipFill>
        <p:spPr>
          <a:xfrm>
            <a:off x="6750000" y="3527280"/>
            <a:ext cx="218772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3187800" y="458460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S – titanium plasma spr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82D-B85C-4A5C-AE82-F4317C8D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DSCN0417"/>
          <p:cNvPicPr/>
          <p:nvPr/>
        </p:nvPicPr>
        <p:blipFill>
          <a:blip r:embed="rId1"/>
          <a:srcRect l="11225" t="0" r="-2951" b="19629"/>
          <a:stretch/>
        </p:blipFill>
        <p:spPr>
          <a:xfrm>
            <a:off x="555480" y="1468440"/>
            <a:ext cx="2146320" cy="2517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7"/>
          <p:cNvSpPr/>
          <p:nvPr/>
        </p:nvSpPr>
        <p:spPr>
          <a:xfrm>
            <a:off x="2881440" y="2476440"/>
            <a:ext cx="39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ерамички хидроксиап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95360" y="40863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змирани слој не поседује стабилну адхеренцију за имплан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 интезивног оптерећења или напрезања током уградње слаби веза плазмираног слоја и површине имплантата, па долази до феномена површинске ерозије  уз ослобађање металних и керамичких чес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C3AA-0E1A-4E95-BB70-F31EDFB1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444600" y="1636560"/>
            <a:ext cx="81709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ескирана и нагрижена површина 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мплан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скирање подразумева излагање површине имплантата млазу силицијумдиоксида, који се под притиском ваздуха избацује великом брз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гризање површине је излагање површине имплантата киселинама, формирајући микронеравн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k"/>
          <p:cNvPicPr/>
          <p:nvPr/>
        </p:nvPicPr>
        <p:blipFill>
          <a:blip r:embed="rId1"/>
          <a:stretch/>
        </p:blipFill>
        <p:spPr>
          <a:xfrm>
            <a:off x="2755800" y="4324320"/>
            <a:ext cx="3548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0840" y="122040"/>
            <a:ext cx="782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67A1-9E3E-4ED6-89D5-FE62BEC3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69800" y="163656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ема изгледу, локализацији и хируршкој техници уградње, имплантати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осе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дент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осе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периосталн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муко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849840" y="2695680"/>
            <a:ext cx="498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родизајн одређује механичке особине и способност имплантата да оптимално прихвата и дистрибуира окузално оптерећење, док је микродизајн пресудан за динамику и квалитет процеса осеоинтеграције и природу везе имплантата са околним тки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733320" y="2575080"/>
            <a:ext cx="1757520" cy="39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191D-E28A-4319-836B-053939037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33440" y="1587600"/>
            <a:ext cx="832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биновањем техника пескирања и нагризања или двоструког нагризања, добијен је микродизајн имплантата који је данас у употреби, и који представља осеокондуктивну површину имплан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C:\Users\Zoran\Downloads\implantologija\downloaduiiiu).jpg"/>
          <p:cNvPicPr/>
          <p:nvPr/>
        </p:nvPicPr>
        <p:blipFill>
          <a:blip r:embed="rId1"/>
          <a:stretch/>
        </p:blipFill>
        <p:spPr>
          <a:xfrm>
            <a:off x="531720" y="3727440"/>
            <a:ext cx="4132440" cy="17175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4703760" y="397044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настаје пескирањем и нагризањем кисел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8218-E129-42BD-9C3F-1FE540D1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5880240" y="2994120"/>
            <a:ext cx="25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 ctive  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ставља хемијски активну средину са хидрофилним протеин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D:\Users\Korisnik\Desktop\42409-400x300.jpg"/>
          <p:cNvPicPr/>
          <p:nvPr/>
        </p:nvPicPr>
        <p:blipFill>
          <a:blip r:embed="rId1"/>
          <a:stretch/>
        </p:blipFill>
        <p:spPr>
          <a:xfrm>
            <a:off x="360360" y="1870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45B-A0A8-4B66-B68D-EBE13D07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5565600" y="3146400"/>
            <a:ext cx="28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Unite 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ставља биолошки динамичну средину ( абсорбује протеине крви и задржава фибри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D:\Users\Korisnik\Desktop\A-Scanning-electron-micrograph-of-an-anodized-TiUnite-R-implant-surface-B-C-the.png"/>
          <p:cNvPicPr/>
          <p:nvPr/>
        </p:nvPicPr>
        <p:blipFill>
          <a:blip r:embed="rId1"/>
          <a:stretch/>
        </p:blipFill>
        <p:spPr>
          <a:xfrm>
            <a:off x="249120" y="1779480"/>
            <a:ext cx="50752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69D-7326-47D9-AA64-3412EC91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7040" y="-36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вршина – микродизајн 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Picture 7" descr="C:\Users\Zoran\Downloads\implantologija\images (27).jpg"/>
          <p:cNvPicPr/>
          <p:nvPr/>
        </p:nvPicPr>
        <p:blipFill>
          <a:blip r:embed="rId1"/>
          <a:stretch/>
        </p:blipFill>
        <p:spPr>
          <a:xfrm>
            <a:off x="2376360" y="1722600"/>
            <a:ext cx="4127760" cy="27716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360360" y="4957920"/>
            <a:ext cx="838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криће гена одговорних за осеоинтеграцију омогућиће инжињеринг површине имплантата, која ће убрзати апозицију кости и редуковати време зарастања до дефинитивне зубне надокн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45F-610A-4B29-986B-945B8123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22040"/>
            <a:ext cx="865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33440" y="1744560"/>
            <a:ext cx="82296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57200" y="1612800"/>
            <a:ext cx="8182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ндоосеални имплан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ј тип имплантата уграђује се у виличну кост. По свом облику  ендоосеални имплантати се деле на :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илиндрич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 са навојима или без)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истас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гличас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вртањ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 шраф ) имплант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 облик прилагођен је основној функцији, да носе зубне надокнаде и делимично или потпуно пренесу силе жвакања на алвеолар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 конструкцији ендоосеални имплантати се дел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еднодел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водел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ишедел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482-5590-426C-8189-E6544D49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Zoran\Downloads\implantologija\mjj.jpg"/>
          <p:cNvPicPr/>
          <p:nvPr/>
        </p:nvPicPr>
        <p:blipFill>
          <a:blip r:embed="rId1"/>
          <a:stretch/>
        </p:blipFill>
        <p:spPr>
          <a:xfrm>
            <a:off x="757080" y="1857240"/>
            <a:ext cx="1951200" cy="331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k"/>
          <p:cNvPicPr/>
          <p:nvPr/>
        </p:nvPicPr>
        <p:blipFill>
          <a:blip r:embed="rId2"/>
          <a:stretch/>
        </p:blipFill>
        <p:spPr>
          <a:xfrm>
            <a:off x="3610080" y="1892160"/>
            <a:ext cx="987480" cy="33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5400720" y="2023920"/>
            <a:ext cx="3135240" cy="2916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336600" y="5522760"/>
            <a:ext cx="85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једноделн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воделни                                   вишедел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ED8-D0ED-4180-AD14-4C661275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69800" y="167148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оосеални имплантати се према хируршкој техници, односно фазама уградње и оптерећења деле на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једнофазне и двофаз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:\My Documents\!doktori\DR STAMATOVIC\magisterijum\slajdovi2\otkriveni.JPG"/>
          <p:cNvPicPr/>
          <p:nvPr/>
        </p:nvPicPr>
        <p:blipFill>
          <a:blip r:embed="rId1"/>
          <a:stretch/>
        </p:blipFill>
        <p:spPr>
          <a:xfrm>
            <a:off x="192240" y="28036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My Documents\!doktori\DR STAMATOVIC\magisterijum\slajdovi2\pokriveni.JPG"/>
          <p:cNvPicPr/>
          <p:nvPr/>
        </p:nvPicPr>
        <p:blipFill>
          <a:blip r:embed="rId2"/>
          <a:stretch/>
        </p:blipFill>
        <p:spPr>
          <a:xfrm>
            <a:off x="4600440" y="28144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312840" y="6040440"/>
            <a:ext cx="85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Једнофазна                                                                             двофазна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669-EF87-4FE2-9F96-A2853FBF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44600" y="1623960"/>
            <a:ext cx="8205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ИЛИНДРИЧНИ ИМПЛАНТАТИ СА НАВОЈИМА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 form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 је најчешћи облик у већини водећих имплантационих система у употре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љујући предностима пре свега у биомеханичком погледу          ( равномерна дистрибуција сила на околну кост ) пуни цилиндрични имплантати са навојима наметнули су се као најпогоднији дизај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C:\Users\Zoran\Downloads\implantologija\images (24).jpg"/>
          <p:cNvPicPr/>
          <p:nvPr/>
        </p:nvPicPr>
        <p:blipFill>
          <a:blip r:embed="rId1"/>
          <a:stretch/>
        </p:blipFill>
        <p:spPr>
          <a:xfrm>
            <a:off x="3405240" y="4191120"/>
            <a:ext cx="24559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4B28-AB2F-4508-BBAD-BB309AE7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9800" y="1757520"/>
            <a:ext cx="820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ндардне димензије цилиндричних имплантата имају пречник од 3,75мм до 4,3мм и дужину од 8мм до 20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стандардних димензија, постоје и димензије за одређене индикације које могу бити уже или шире од стандард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s://encrypted-tbn3.gstatic.com/images?q=tbn:ANd9GcR5N8vSucu6UpMvA1EWTyr7qFkxelIyaIILX9aV0a85h6y3ZEm2"/>
          <p:cNvPicPr/>
          <p:nvPr/>
        </p:nvPicPr>
        <p:blipFill>
          <a:blip r:embed="rId1"/>
          <a:stretch/>
        </p:blipFill>
        <p:spPr>
          <a:xfrm>
            <a:off x="2273400" y="3781440"/>
            <a:ext cx="4351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CD2-7EA2-4A47-A4AE-CDE8BAAF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44600" y="1600200"/>
            <a:ext cx="818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имплантацију у екстракциону рану развијен је карактеристичан дизајн имплантата који је коничан у апексном делу и прати облик коштане алвеоле, а захваљујући повећаном броју навоја у односу на стандардни тип остварује већу површину контакта са околном кости и бољу примарну стабил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s://encrypted-tbn0.gstatic.com/images?q=tbn:ANd9GcTY7vTPHPFYv604oC1zAlKRDNAi_-ejnvdBe0PW6d0qR5G7HUlP"/>
          <p:cNvPicPr/>
          <p:nvPr/>
        </p:nvPicPr>
        <p:blipFill>
          <a:blip r:embed="rId1"/>
          <a:stretch/>
        </p:blipFill>
        <p:spPr>
          <a:xfrm>
            <a:off x="4498920" y="3710160"/>
            <a:ext cx="327024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s://encrypted-tbn0.gstatic.com/images?q=tbn:ANd9GcQynVBLEJJiqQM_b__jATOyL4EjmTyZG3-dgapZKlrtxlAXqiOV"/>
          <p:cNvPicPr/>
          <p:nvPr/>
        </p:nvPicPr>
        <p:blipFill>
          <a:blip r:embed="rId2"/>
          <a:stretch/>
        </p:blipFill>
        <p:spPr>
          <a:xfrm>
            <a:off x="853920" y="3571920"/>
            <a:ext cx="33721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C88-D89E-4D42-A047-C5460E0D7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Врсте макродизајна импланта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9800" y="1708200"/>
            <a:ext cx="820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воји имају вишеструку функцију, пре свега, у постизању оптималне примарне стабилности, а потом и у дистрибуцији сила на околну алвеолар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 закошености и заобљености ивица навоја утиче на разлагање сила и растерећене кости која преноси оптерећ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https://encrypted-tbn0.gstatic.com/images?q=tbn:ANd9GcQXWVD7mnjd_96XhF3_YbFY24Dp1c2H_iq3clRBWx_1W56q51yq"/>
          <p:cNvPicPr/>
          <p:nvPr/>
        </p:nvPicPr>
        <p:blipFill>
          <a:blip r:embed="rId1"/>
          <a:stretch/>
        </p:blipFill>
        <p:spPr>
          <a:xfrm>
            <a:off x="2886120" y="3884760"/>
            <a:ext cx="32846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User</cp:lastModifiedBy>
  <dcterms:modified xsi:type="dcterms:W3CDTF">2020-02-10T14:36:57Z</dcterms:modified>
  <cp:revision>1961</cp:revision>
  <dc:subject/>
  <dc:title>NAZIV PREDAVANJA</dc:title>
</cp:coreProperties>
</file>